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7EB-614D-47FD-A3C1-56C60896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1BF-B2B1-4BCD-9163-F34BC703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812-B57F-4050-8246-8BEEE38B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8F9-B2B2-4B41-80E4-427FC2D3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5B3-F68A-4907-8C8A-DDD48C75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75B-77B3-4F89-946B-7140EC37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BFB-5D1A-4516-8612-E5F91B4B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0F6-BED7-4473-8936-4FC06265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EB7-C420-4AFC-B91B-726D8510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21D-1BE4-4F57-B6A2-7E271E17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621-7FC5-459B-8D1B-F552F6D2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E7C-ADF2-4723-A18C-97FA46B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C456-31B5-4786-8EFC-9C614E56E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48769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Pandua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Meringkaska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Karang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12408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7720" y="68580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PERINGKA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1523880"/>
            <a:ext cx="3733920" cy="338580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khu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rahan dikhususkan pada satu h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ringkasan menurut arahan yang ditetap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lajar perlu peka dengan arahan, bukan berdasarkan semua isi p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523880"/>
            <a:ext cx="3733920" cy="37515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u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rahan soalan secara u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iada hala tuju ringka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lajar fahami keseluruhan t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ringkaskan dengan tema dan idea u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lajar fahami semua isi penting dalam pet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24280" y="5257800"/>
            <a:ext cx="359892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1680" y="76212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LANGKA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3505320"/>
            <a:ext cx="3733560" cy="155700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Beza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idea utama dengan idea sampingan - idea dengan hura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133720"/>
            <a:ext cx="3733920" cy="37515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Baca petikan secara keseluruhan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ari isi-isi penting berdasarkan arahan so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Gunakan pen penyerlah – gariskan sahaja frasa atau ayat yang p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lajar harus peka dengan arahan so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86400" y="685800"/>
            <a:ext cx="2201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42760" y="660240"/>
            <a:ext cx="1668240" cy="39888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LANGKA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1371600"/>
            <a:ext cx="3733920" cy="37515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Gunakan Penanda Wacana dan kata hubung yang koh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Sambungkan dua isi penting dengan kata hubung yang sesuai – bina ayat kompl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nanda Wacana berfungsi membentuk kesinambungan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371600"/>
            <a:ext cx="3733920" cy="22885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Sambung frasa atau ayat yang digaris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entuk sebaris ayat lengkap dan mena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ina dengan ayat olahan kamu sendi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5600" y="5867280"/>
            <a:ext cx="73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RHEMATLAH SEWAKTU MENGGUNAKAN PERKA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21826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76212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LANGKAH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447920"/>
            <a:ext cx="3733560" cy="22885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Gunakan AYAT KAMU SENDI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Gunakan kata bersinon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Gunakan frasa yang ringkas dan pa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447920"/>
            <a:ext cx="3733920" cy="22885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Isi penting dengan ayat ringkas namun pa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astikan ayat-ayat ringkas anda lengkap, ada subjek dan ada predi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800" y="4267080"/>
            <a:ext cx="529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oh frasa: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idak lagi ha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milihan frasa lain: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udah bi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1640" y="532296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oh frasa: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enerima sahaja perubahan tanpa keinginan untuk mengub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milihan frasa lain: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embiarkan sahaja perubahan berla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2400" y="4876920"/>
            <a:ext cx="781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6858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LANGKAH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1447920"/>
            <a:ext cx="3733920" cy="30200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Langkah ini mengelakkan peringkasan yang terlebih had perkataan yang dibenark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erlatih dengan kerap – terbitkan kemahiran berbah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447920"/>
            <a:ext cx="3733920" cy="37515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Semak kembali karangan peringkasan – pastikan ejaan betul dan ayat yang gramatis digunak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Hitunglah jumlah perk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Hadkan jika terlebih – sesuaikan ayat panjang menjadi ayat pen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43600" y="4648320"/>
            <a:ext cx="1657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8000" y="6858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MANF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447920"/>
            <a:ext cx="3733920" cy="19227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Dapat membina nota-nota ringkas sendi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ina bahan rujukan daripada maklumat yang diperole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3733920" cy="22885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nggunaan ayat yang dibina sendiri dalam memindahkan maklumat penting dapat memupuk kemahiran berbahasa yang ba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7524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8360" y="612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KESIMPU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1600200"/>
            <a:ext cx="3733920" cy="11912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Merangkai idea sepadu dalam ayat-ayat yang bertautan dan koh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00200"/>
            <a:ext cx="3733920" cy="265428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Memproses maklumat dan mengumpul isi-isi p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Menuruti kehendak atau arahan so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Fokus pada tema dan idea u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51055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UNAKAN KATA HUBUNG, PENANDA WACANA, PEMILIHAN KATA YANG PRESIS, IDEA DALAM BENTUK AYAT RINGKAS, TETAPI PA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24382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7760" y="60948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erdasarkan karangan yang diberi, ringkaskan isinya supaya menjadi tidak lebih daripada 100 patah perka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895320" cy="716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9880" y="4800600"/>
            <a:ext cx="4876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nya satu usu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amu boleh gunakan kaedah peta minda untuk membuat draf latihan peringkasan kamu 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06:36:07Z</dcterms:created>
  <dc:creator>Abdul Manaf</dc:creator>
  <dc:description/>
  <dc:language>en-US</dc:language>
  <cp:lastModifiedBy>Teacher</cp:lastModifiedBy>
  <dcterms:modified xsi:type="dcterms:W3CDTF">2010-04-06T23:26:33Z</dcterms:modified>
  <cp:revision>15</cp:revision>
  <dc:subject/>
  <dc:title>Panduan Meringkaskan Karangan</dc:title>
</cp:coreProperties>
</file>